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12290"/>
        <c:axId val="27676077"/>
      </c:barChart>
      <c:catAx>
        <c:axId val="64812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76077"/>
        <c:crosses val="autoZero"/>
        <c:auto val="1"/>
        <c:lblAlgn val="ctr"/>
        <c:lblOffset val="100"/>
        <c:noMultiLvlLbl val="0"/>
      </c:catAx>
      <c:valAx>
        <c:axId val="27676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12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C65-BFA0-4E5E-8891-A4D12EFC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395-A631-4A3E-B489-BE3B82A5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372E-B932-4F84-81F0-EAA03EA3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4F2-13DB-4286-9C8A-BD7B38D2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D7C-A407-484D-976C-16DD46D5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790-744B-4390-862E-99D0DDCA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87F-B8BC-440B-84A2-72281295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45F-F749-4258-B0E6-8E9F287F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6DC-2F6A-40C7-B41B-CD1F16CD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CE6-4F20-43F1-939E-A1D2CFD9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81C-B362-4817-80A1-1FFCE750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05B-84F2-4C6F-9BA0-E13C175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EA110-1DE7-4BE5-AE01-1C07C13712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