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8F485-279B-47B0-A6BD-BD6D8210D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2D4A9-1B25-4D80-A29E-82A4FDC2D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D1B3C-C710-41C1-9362-62C53950E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B3E11-8906-41BA-9899-F4B7AC9CA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1B08A-A060-44FA-8741-A4DAFECAE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40D37-10BF-4177-9EB9-8DC08B16C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24602-F60D-40DB-9D67-2DAB8906F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5ED47-09E4-4520-A338-F5C46216F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AE286-3BCB-43C1-8DC0-32F34FCD8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7E960-B432-4884-9CB2-407DD4839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476A2-9080-4750-9D5F-AC1236668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8543C-A5D8-4274-90D1-66BC44A57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65E12-667F-45CC-BEB9-646E794989F0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3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5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7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9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1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3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9"/>
              <a:gd name="adj2" fmla="val 49994"/>
              <a:gd name="adj3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5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4"/>
              <a:gd name="adj2" fmla="val 49994"/>
              <a:gd name="adj3" fmla="val 499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7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50000"/>
              <a:gd name="adj2" fmla="val 49994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00:13Z</dcterms:created>
  <dc:creator>tb121644</dc:creator>
  <dc:description/>
  <dc:language>en-US</dc:language>
  <cp:lastModifiedBy>tb121644</cp:lastModifiedBy>
  <dcterms:modified xsi:type="dcterms:W3CDTF">2005-05-25T09:04:25Z</dcterms:modified>
  <cp:revision>2</cp:revision>
  <dc:subject/>
  <dc:title>Slide 1</dc:title>
</cp:coreProperties>
</file>