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C12-34C7-4B0E-894D-D7DA7621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68E-3EA7-4710-A4BF-FCD248F9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E7B1A-FC6D-461A-BBF0-90376F699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D2205E-C33A-430E-97EC-3F6338DE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D9D00-5A1F-46CC-8E9B-FB0FB28C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1A1A5-A1E7-497F-A6DB-EF3DA24A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5D8AC-5948-4479-8812-124CCA4D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96F885-CAD4-4E88-8AB9-AA32B7B6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BC8F6-36F6-4BFA-814E-FDB7CFF1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6E03D-0842-4BB5-ADD1-9E76FDEA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BC65F-AE11-4A23-822B-68A5C3CD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37C0C0-9329-4E01-8019-DA3801BB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6CA7-A394-4169-BE7B-64A2F15B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894E1E-6A9A-491A-9379-5A3AFECB8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BD5C15-ADB2-44E4-94EC-132189A6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C29273-0537-4EAE-AF5E-C306499E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6ECE34-7B33-42CA-93D8-6FBB0B72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01686C-EFC4-4706-9492-95863DFE4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F87AA9-B3A5-4BF3-AC8A-E3E8066C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C083CB-2905-43A5-A514-207FD47A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72D1A3-77AF-41DF-876E-A00674C1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FAC863-1BC1-4484-9B0F-94D2F2DD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86ABB3-AAAE-49A9-B68B-4050A72D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F3C-356B-44AD-BC21-E8FDF385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E7E1A7-3C71-4C0C-9DA2-29B79F3F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48C0B-00E1-4B4F-BFCE-FD6540BB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331DC-98F9-4389-A3A3-E237CABB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516C16-3E3F-413D-8EE4-257BB294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66352-C833-4583-8909-5BEB48FE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3E3DCB-1516-4486-8294-DC58C174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5368A-7201-442A-8E0B-E0C24D1F5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34A75-10D6-4EA3-BDAD-48AFAABC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7AD09-8F66-4F7A-B8E4-AC163CDC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306D5-0035-4E49-82A5-26F243AD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40E6-FEFB-4575-98C3-AC1217269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1FADD-84FF-4AC2-9B5D-B1E143C2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58C6F-F078-4A46-858E-537D6D75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A667C-8565-4BF3-8F80-F874E482B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34ABD3-03AB-4A24-B512-773B3AE05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C72EF-FF54-4F0E-8395-F91DCDAC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11679-6E9B-42BF-AA6D-155D8AD8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C32B64-1501-4EC6-9A21-ECBFA92F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02369-0D82-4FBC-AD9E-2C838BC5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67045D-CEA0-427E-85F1-65396E37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4BF0C-2A91-49ED-ACBE-6485431A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7FDC-F43F-49EA-9C94-A0FCC9BC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47CD15-2F4A-4EA1-A4E6-5A57A27E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FAF124-3F88-4F43-8E68-3C64E15E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2F6D2-9311-4228-90BA-11566980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A217B-6501-4C28-9E0F-6C7DE9D5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E8364-B5D5-4534-AEBE-36B12AD2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925D-FFAA-482B-A4EE-C7726037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333F-6516-4D35-A46B-2487EECA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EA2F-C2DE-4F63-A282-2DA1D794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8D4FF-0746-4D7F-9857-967973D4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83D8-A382-4930-A30E-CBC0A527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04B-81E2-4EBC-BE0B-06DF56AB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AD5F-B44F-4DE8-9E2F-166D980B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6D37-D146-4309-A225-189B585D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3D7D-76BA-40F2-BE2E-148DEE26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49F8-23C2-47A4-9B55-CDB656A4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E686-228F-4313-A55E-0909356D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930C-4671-4775-8543-160C281F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BAA78-1F2B-4945-B6C3-04D5D34F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03BCD-AA44-4025-89CB-C5D3394B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58B62-312C-4B0C-BA5C-E62A496B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E39B7-B007-4FB0-830B-4E82AAB1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9F8-9BD3-4227-8184-3E21EE69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9849D-6B92-414E-B5E7-618A1ABA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83241-2C82-4DEB-95A5-DFDBCDA6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04D1-D7EF-4DC0-9720-705C76AD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7FC2D-34AD-444E-85A1-DF9AB6AF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E41E6-7F41-4D8D-8DF8-94EFA08B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FC3D1-A5F2-4230-BA6D-165ADE3F8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4CC1C-FEEF-420D-8586-F46C447D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04C7B-0830-40CA-8B61-7A5835FE6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18911-6ADA-46C4-80A8-98BA8A43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3B763-5D4E-4B41-8FC9-DC175A00D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8F5F-782C-49A0-970B-A5D38FC6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B112A-462D-4A01-929D-E4B6986C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23E2-592E-4763-B470-6AEEEDDC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7737F-5487-4C72-8135-F884ECF5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85F33-717C-4703-B488-F138DB79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6CF6B-ED4E-4BCA-B562-2E303F02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3C42F-4660-4C3E-A750-469146C3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5646A-E940-44E6-9822-0FB437F6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63CC-BC6F-4419-A102-4EFDDB93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FF0A-2ABB-4B2E-9DBA-C211A266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EADC18-6545-4EC3-A62C-EA3DB6B0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DE13-D135-4570-A9AC-FDEBE1FE0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78C3A-148E-46E6-81B7-70E00BA8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50B58-91AE-4CBD-A6F1-71753C62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0CC8F-216B-43CD-8AD5-F961675C3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430E22-393E-408A-8069-DD6BA182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9717CC-BA4D-4D0A-B889-D088F61C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A195C-69F8-4B11-A9DA-9E405C57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1FCED8-73E2-4824-AF7F-C4D65F7C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40165-1A31-45A7-880A-FB6B606F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0B2F34-F9EC-4B06-8770-668FD941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4DC4AC-D5F1-4F70-A75A-DD1C72D8C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6B8E-A0CF-41B8-B0C6-4955E2FA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B13C8-0916-45A1-8BE6-BD4230B4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CBD08-564F-42E7-9D63-04A69FBB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62FA7-C841-444C-8D2C-1E50B77A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DEF1F-BD20-48A5-B66D-6D5CDA0A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EABB3-C5C1-4D55-8ED5-6DB1D0D8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AA48B-4723-49C2-AC90-A1F6FB80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49BEA-2DA5-4EA7-9A17-B15C3ABA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75464-7FD7-4126-B9C2-813EBF4C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F54D0-DF70-4E91-8180-A1D4726E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AC702-9E7C-4584-9ADE-219D4B9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96CE-B78E-4270-9C77-3BC10329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EB103-85A9-44B2-BD36-6EE4DD5E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90C49-595C-4A22-8F85-8F94466E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F669D-47BD-4705-A074-61EBB78C3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CAD96-8786-4E30-AC11-A8065116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EB5CA-F31A-4CFE-A15B-E67E98E9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9CCF8-60EA-41E4-AB2F-4EE8B37D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99439-AB8F-4403-A73A-E1E1B8DC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C098B-2099-4958-8E42-B61E1D1F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10754-7BA9-41B8-910F-08773D78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77FFD-CC1C-4E5C-830A-1CB26377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6007-4EAD-45F2-B97E-0679CE8E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DEC9A8-E34E-4628-A796-F4FA7FFC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72F44-6BE9-40BB-BE3A-593DD63F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18382-352A-4DAC-B228-127A998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FC571-15D2-49D5-A085-1FBBA06D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1BBF4-9BA4-4799-8913-DBA2D824D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81D21D-B344-446F-8A06-12C344D4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02FA8-572B-4C21-863D-203E5A3D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23AB1-160D-46D2-9898-0721F8BB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CB03A-2CFE-413B-8F6E-7CCBCAF42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652CC-29CD-41A2-843B-A306B1EE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73DA-CA88-432D-84BA-BD14417B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7E213-CD74-4CCA-8063-210AA181D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63052-C62A-4D8D-B95C-B283CF59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5825DA-B8AB-41E9-A470-24AB7ADA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DD633-CFE5-4AAA-A564-03E97EA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24687-C89E-415D-B3FE-719956A8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53963-4D1F-47B1-BB47-2522A626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29BDF-8913-42F7-8BE8-E75D500F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7DFA7-8AF0-44F3-BEBE-E89A61CE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02308-D8FC-4128-A686-34C84164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A7175A-466A-44C9-876F-23316018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3E61-97D7-4598-BCB0-5DD0393BE5D8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1042-53A0-41A2-960B-8E6CD36C05E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C0FF-0593-4671-BC6F-09984C39999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ADC8-3BC1-4044-82FD-1AAAB23EF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ACD9-6B56-49E5-8853-96828DA53A3E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18CA-60B1-4B3D-8CC2-A539566660C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FD9DE-F9B9-48E5-A3AD-4914FE64E9F1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36BB-2295-4E45-9DFB-10FF8FCF1C4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44D7-E0BF-491E-BE1C-36E437E364A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36994-0549-4728-8CBD-F5155C30806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AD59-408B-49E9-9DE9-C26FC46362E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E400A-8F0D-46C5-B04F-82CA5DF9D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20BF-B939-4ED7-9604-B2B77E1DBDB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5043-6FE2-4F73-B7FF-44CE686E2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05228-AF66-4622-A10C-C5A7DA148F1F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6EBD-A802-4505-918C-E08D6AA9C6D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0885-1717-43EC-BAE8-DD98EC0D8DA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F29F-D754-4195-800A-EF4866A1E4D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D975-4371-478D-A0A9-7A538E4BA95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7695-64D5-42B9-B046-25A5F113CB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5E8A-D438-4512-B17E-E7887E445B6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908E-D6A3-4654-B68E-B8DDCA169C0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55E6-2224-4DFC-A430-CD9BE89299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2EB7B-514C-4904-A37E-2392C3BAF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E1B-16CC-4518-9BC5-4725F70EE79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72EFF-60A1-48CA-B9E0-5BA428498BE8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FE072-8E1C-4A49-A791-9E7C62700D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E30E4536-4BDB-445A-B95C-3DFD6272403B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6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plus(out)" transition="out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63EB-90BC-4996-AF5E-75716659AF64}" type="slidenum">
              <a:t>3</a:t>
            </a:fld>
          </a:p>
        </p:txBody>
      </p:sp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9674E-1E49-4514-BB32-808598C064BC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8F93F72D-A3AA-42BE-B844-270A4E662A17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C69129-61FF-4C66-A2E1-01BB83EC04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0CD20FB6-0721-4EA1-90C2-A6FA111E8812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4000"/>
                            </p:stCondLst>
                            <p:childTnLst>
                              <p:par>
                                <p:cTn id="2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0"/>
                            </p:stCondLst>
                            <p:childTnLst>
                              <p:par>
                                <p:cTn id="2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6000"/>
                            </p:stCondLst>
                            <p:childTnLst>
                              <p:par>
                                <p:cTn id="2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9000"/>
                            </p:stCondLst>
                            <p:childTnLst>
                              <p:par>
                                <p:cTn id="3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79F26-453A-4F90-9E0D-09124172E10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92527CD1-BCCC-4942-B1C1-30E2D9BB20BB}" type="datetime1">
              <a:rPr lang="en-US"/>
              <a:t>07/28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