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7444-7A2C-45B2-BDE3-6B181A482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B3BB-2151-453E-A688-A4A9272BA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3A2B-2E01-437F-9972-8AF485704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2EBB-2E7B-4E6E-8099-C7622D1E6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04C29-D32C-4A0B-B8CB-A7CEAEDF4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BE731-3F16-4C55-9871-87165CF5D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F724B-8046-47E9-AEB6-B75B3D921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10885-7CFC-4F7D-BD8C-8205CCC42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EBDE0-6D9F-41DE-BB38-248CD2D8F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1D008-2EC2-4A03-B3B2-8A40807BB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DC178-120A-455A-8B29-67D578FD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92CD-6747-4581-A03C-6482D7072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B8B13-472D-4104-AD74-AA90BA95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CE43F-8E88-4E5A-87E3-62394461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43BC8-79C4-48F7-91D9-10A6D659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0DE6E-2A19-4307-8BCC-27172F8B2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BA02C-ACE5-4780-B63C-7D7907523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35DC-94DC-4881-84DD-BFA421866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B39A-EAE9-44EE-BD31-536F74BA8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0BB9-F180-468A-8218-51D201C75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5F05-D1C5-474C-A518-BC06B7E0C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F396-A974-43EA-810E-9268B39F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82B5-A521-4D5E-B886-5B5EC9BD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2D8E-005E-4281-BB25-5044CF9C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1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996600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6E680-2C06-49F9-B347-98E2B37C8324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53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7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D5F4B-EDE9-4C93-920E-BAD3A0F21EBB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Microsoft PowerPoint 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テスト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これは 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MS PowerPoint 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ファイルです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1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2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5T10:41:34Z</dcterms:created>
  <dc:creator>著者</dc:creator>
  <dc:description/>
  <dc:language>en-US</dc:language>
  <cp:lastModifiedBy>NaCl</cp:lastModifiedBy>
  <dcterms:modified xsi:type="dcterms:W3CDTF">2005-07-08T02:25:04Z</dcterms:modified>
  <cp:revision>3</cp:revision>
  <dc:subject/>
  <dc:title>タイトル</dc:title>
</cp:coreProperties>
</file>