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A09BE5-321B-4998-A1B4-C569B09EC0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5C74C6-7C92-432B-83C7-848148F152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87A6FF-28D3-4F1C-A145-CA236A436C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60C7CE-471B-4714-90A9-C89134AAA10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5DCB12-A011-4E5A-979A-47E954FF05C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7CB9A0-D415-4CA6-A47F-0F01D69109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4F107D-0426-49AC-B05F-2A04488E2F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8CB422-E2C8-466F-B52D-13B6D4BF31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965E7B-C848-4F9D-8506-2386631B43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135296-DBF6-4220-90DD-1536C94CB1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A1FBC6-4074-47CC-8252-F6CEF1C7C4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E08951-076C-4E63-ADF9-B5C152449C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413A4-7E23-459A-BD16-158F9A35C8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Document"/>
          <p:cNvSpPr/>
          <p:nvPr/>
        </p:nvSpPr>
        <p:spPr>
          <a:xfrm>
            <a:off x="838080" y="336852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812880" y="34574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1727280" y="3419640"/>
            <a:ext cx="380880" cy="609120"/>
            <a:chOff x="1727280" y="3419640"/>
            <a:chExt cx="380880" cy="609120"/>
          </a:xfrm>
        </p:grpSpPr>
        <p:sp>
          <p:nvSpPr>
            <p:cNvPr id="43" name=""/>
            <p:cNvSpPr/>
            <p:nvPr/>
          </p:nvSpPr>
          <p:spPr>
            <a:xfrm>
              <a:off x="1822320" y="3419640"/>
              <a:ext cx="190080" cy="173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917720" y="359352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1774800" y="385488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917720" y="385488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727280" y="37242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"/>
          <p:cNvSpPr/>
          <p:nvPr/>
        </p:nvSpPr>
        <p:spPr>
          <a:xfrm>
            <a:off x="876240" y="472428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ild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Document"/>
          <p:cNvSpPr/>
          <p:nvPr/>
        </p:nvSpPr>
        <p:spPr>
          <a:xfrm>
            <a:off x="3886200" y="344484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60640" y="3495600"/>
            <a:ext cx="762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 (from chil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3352680" y="3508200"/>
            <a:ext cx="381240" cy="609840"/>
            <a:chOff x="3352680" y="3508200"/>
            <a:chExt cx="381240" cy="609840"/>
          </a:xfrm>
        </p:grpSpPr>
        <p:sp>
          <p:nvSpPr>
            <p:cNvPr id="52" name=""/>
            <p:cNvSpPr/>
            <p:nvPr/>
          </p:nvSpPr>
          <p:spPr>
            <a:xfrm>
              <a:off x="3448080" y="3508200"/>
              <a:ext cx="19044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543120" y="368244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3399840" y="3943800"/>
              <a:ext cx="14292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543120" y="3943800"/>
              <a:ext cx="14292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352680" y="381312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2286000" y="3429000"/>
            <a:ext cx="914400" cy="244440"/>
          </a:xfrm>
          <a:prstGeom prst="leftRightArrow">
            <a:avLst>
              <a:gd name="adj1" fmla="val 50000"/>
              <a:gd name="adj2" fmla="val 7446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84480" y="236232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819520" y="2793960"/>
            <a:ext cx="0" cy="6732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5335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ng Delegations – Parent-Zone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29200" y="32767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079960" y="34322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62560" y="405288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032440" y="410364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648320" y="38098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Document"/>
          <p:cNvSpPr/>
          <p:nvPr/>
        </p:nvSpPr>
        <p:spPr>
          <a:xfrm>
            <a:off x="7086600" y="4343400"/>
            <a:ext cx="685800" cy="838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23240" y="4330800"/>
            <a:ext cx="8254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 (with child’s D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Document"/>
          <p:cNvSpPr/>
          <p:nvPr/>
        </p:nvSpPr>
        <p:spPr>
          <a:xfrm>
            <a:off x="7086600" y="24382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35840" y="252720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Document"/>
          <p:cNvSpPr/>
          <p:nvPr/>
        </p:nvSpPr>
        <p:spPr>
          <a:xfrm>
            <a:off x="7086600" y="34290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048440" y="35305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6400800" y="304776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400800" y="3809880"/>
            <a:ext cx="67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400800" y="396252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105520" y="50292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118120" y="517212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oad the Parent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108400" y="58561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448240" y="5803920"/>
            <a:ext cx="69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4343040" y="56134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5257800"/>
            <a:ext cx="685800" cy="76212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581280" y="5435640"/>
            <a:ext cx="83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am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3200400" y="5613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048120" y="553716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5715000" y="2209680"/>
            <a:ext cx="380880" cy="609840"/>
            <a:chOff x="5715000" y="2209680"/>
            <a:chExt cx="380880" cy="609840"/>
          </a:xfrm>
        </p:grpSpPr>
        <p:sp>
          <p:nvSpPr>
            <p:cNvPr id="85" name=""/>
            <p:cNvSpPr/>
            <p:nvPr/>
          </p:nvSpPr>
          <p:spPr>
            <a:xfrm>
              <a:off x="5810040" y="22096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05440" y="23839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>
              <a:off x="576252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0544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15000" y="25146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Document"/>
          <p:cNvSpPr/>
          <p:nvPr/>
        </p:nvSpPr>
        <p:spPr>
          <a:xfrm>
            <a:off x="4267080" y="1981080"/>
            <a:ext cx="990720" cy="82872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5780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216320" y="1968480"/>
            <a:ext cx="106704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Parent Zone File (containing delegation to chil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905440" y="28954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6477120" y="1371600"/>
            <a:ext cx="358560" cy="7221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6324480" y="137160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 flipH="1">
            <a:off x="6095520" y="2070000"/>
            <a:ext cx="266760" cy="2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743880" y="1346040"/>
            <a:ext cx="9144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ublic keys at parent (ZSK and KSK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2819520"/>
            <a:ext cx="1676160" cy="1904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6858000" y="5410080"/>
            <a:ext cx="380880" cy="609840"/>
            <a:chOff x="6858000" y="5410080"/>
            <a:chExt cx="380880" cy="609840"/>
          </a:xfrm>
        </p:grpSpPr>
        <p:sp>
          <p:nvSpPr>
            <p:cNvPr id="100" name=""/>
            <p:cNvSpPr/>
            <p:nvPr/>
          </p:nvSpPr>
          <p:spPr>
            <a:xfrm>
              <a:off x="6953040" y="54100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048440" y="55843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>
              <a:off x="6905520" y="58456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048440" y="58456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858000" y="57150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"/>
          <p:cNvSpPr/>
          <p:nvPr/>
        </p:nvSpPr>
        <p:spPr>
          <a:xfrm flipH="1">
            <a:off x="7200720" y="5257800"/>
            <a:ext cx="368280" cy="36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6477120" y="5613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276720" y="3200400"/>
            <a:ext cx="144756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426708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670200" y="424188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26Z</dcterms:modified>
  <cp:revision>154</cp:revision>
  <dc:subject/>
  <dc:title>Slide 1</dc:title>
</cp:coreProperties>
</file>